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3F2C-7404-4382-93D2-A8A7038C0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FC66-1C81-4AF2-A4C2-AED9295E1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D55-6ADE-4248-B1FB-4C140D54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200-A199-4145-9A5D-C37596C3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4CF60-E751-46E2-830E-BC11E0A4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8F06D-EFB4-4074-8494-A3810538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F507F-0F05-47E6-8CF2-1921F02F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C5979-9ABC-475B-BE7D-8555BD85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04215-8A27-4A22-822D-1D223E2B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A71D9-5D13-4DC7-A570-8F6F7C8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2EC2A-5447-4645-9F5F-889AA0FF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497F1-115C-4446-BB2E-4C098043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56C66-F3B1-4621-AF6B-F007C8A0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F27-613E-4939-BF9C-3B748DE6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829-7C3B-424E-B6F8-7A084D15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7681-2091-4FCF-8132-827D9895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BA5B-A195-4B4B-8384-704F5D9F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1907-B741-4736-8077-D3A077C5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B208-E433-48B8-A4FB-5D358527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9FD2-F6B5-4DEC-BE67-F277794D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BCC1-5BF8-4834-98DA-F3052408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6E76-95A1-42DD-BD84-02DCA47A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725-B414-489A-8681-135CAA2A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32E5-AAD9-4867-BDB7-5D3EDD2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0A88-B8B1-480E-A1FE-4C25EF8C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FA00-1183-4A89-8E16-3D7C944A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52A8-DC78-4220-8C34-498C4C6F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1241-9968-4538-BBAE-90F68105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5F55-88FF-4BB7-9BF1-6514C137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B631-1652-486C-AA32-597AC528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2AE2F-5788-41BE-9438-FDA93A5D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0026-DC8D-42C5-A306-3F4D9098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AA23-E98D-4E28-888F-7C36ACB7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E8A-8A0D-4473-99A2-42751A42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CD49-D201-4429-8B06-E14F9EC2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BB6A-2BD5-4813-BF09-E306955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FB3B-90F6-455E-A341-260743D9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819C-0290-41E4-9095-865828CD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F7D7-559A-4FE4-81E8-278DE6F3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7EE1-EF58-4475-967D-F39D2EF9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A2FB-024A-427E-8147-60ED2C6D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B300F-57D6-4D43-9033-A1AC6DB6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3EB5-16CB-442A-8CD3-A66C0606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883BC-C328-4F74-986D-C598D674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C50-755B-4DA3-B542-CA691EA8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3E3A-FF53-4904-B8F1-35C6AC32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AEBB4-7B49-4AA9-8010-1A69589F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5A501-6D6A-4793-B050-D6BA7A1C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5AD47-C5CC-42C9-91BC-769D33BD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7FA06-1C4B-4625-9EE7-27F4AA73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7A54D-0117-4FFB-8550-4462E44A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AD31-E7F6-4F51-8A88-B213D52B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D4C9F-50E9-4F9A-88EF-430AD253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324F4-E8DE-41C4-A5B8-0C7B9608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EB8B2-A85A-4C23-867B-CEB60ED0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F75-312D-46DC-964E-A52D7194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C49CA-A09F-4F1A-9ECB-92D88591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41B38-4312-4286-8B0F-E65A4400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DAB4-5B0C-476B-B2C5-35018E45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3663C-BBDA-4AFE-96F2-E26E76EE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AF1B-E842-43E7-B44D-D4480302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7BEB7-6994-478F-B9A6-A2E24933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4BD96-A140-4D7E-B485-E9C988EB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E6A1C-DC44-42C0-B527-1625488A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770F4-6B7D-440C-877B-5144DC27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572E9-38D4-4BA8-BCD9-CF224728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857-83CA-4EA5-9BD1-7DA23F23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7A758-05E1-43F5-9021-C42AAE7F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8E1FC-638F-4EF8-BE6D-44E5C114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3D182-33ED-4408-9BF6-D31AC249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BEDE-5E50-4BAE-A1BB-C6F13BBA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4B1B3-4528-408D-AF84-086D5894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A9D77-14A1-42F8-A511-4DC43E36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BFFB9-5828-4257-95A5-0271A5F1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6009E-9176-4417-9747-27A54D7D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1A231-AB62-4D9D-B67E-52465895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E5B4E-943F-45AF-A465-32FDF5A6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552-FEF0-4020-B247-A189EF6E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89A20-DAD2-4C60-A8C7-6E361377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980C3-C608-43AC-97AB-487655BC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AA7EE-F89D-441D-ABDF-9DBB5498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2A1C1-2487-4FCE-AD16-F9512E5F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32C53-085E-4A64-927F-7B7F46A8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4D39A-25EC-4B93-8416-8812989E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B4B94-8098-4F39-A0F4-E55C71F8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DFF0A-91F4-48B6-B670-AFD332EB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43E3B-0054-48ED-B40E-25291E1A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463B9-ADEF-4A86-8EBC-2D1D8C06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F1D-9AFA-4DAC-A8DD-37FCD77F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11A3B-B5D8-4140-B51E-DB52EE4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FF6D5-CB58-42DA-A220-DB2375CF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AD4CE-EBEB-4846-9143-92DBEBF4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2924B-B832-4E08-9AE4-153E7375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97400-21C6-48CE-A33D-1AACBA34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38B71-23FA-4D1C-9F1D-6CFBF272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A8ED9-8E1B-484A-9A68-2C83F2F7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C5DB0-CE66-4690-B313-A29E9036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0035E-87C0-47CE-95CF-2D19D09F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6AFF9-E9D8-4D2B-AE85-A839F862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505-7F55-4A65-AAA5-53095EF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26B01-6C3C-4853-A337-6F07696C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8290D-B6D4-4329-9E03-716399A9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1244-9045-44F8-9E71-75687B28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1EB08-88EA-4CEE-B466-9EC5F146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599FC-17DF-4B87-897C-239E7B35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B8402-5C8E-4D73-977F-829FC33B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FFB96-68D9-4E4D-83FF-F9C8F8B1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34D1F-EE9B-4456-BEF5-AF24614A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070DE-2643-4D22-BE6D-43B42B3D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72F2F-81B2-4132-84BA-265F7CBA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341C-EA49-4CAC-ACAD-40D6ECB593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84DD-09DC-4179-8BA3-CA71D805A8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9ADB-3D08-4605-A43C-9FF7A91E9D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79BF-B665-41FB-87D1-292DFA70B0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3C58-41D2-4181-83F7-F9EAD3AEF1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0716-0B80-4F77-9F30-632FD89704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57C4-7278-435A-8E04-9690838E67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6FC7-40DB-4B38-BAE9-30883B5D0B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1405-B0B4-4694-81D1-BBEA270968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ain Ide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use and Effec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WL Char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mpare and Contra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eb6115"/>
                </a:solidFill>
                <a:uFillTx/>
                <a:latin typeface="Lucida Sans Unicode"/>
              </a:rPr>
              <a:t>Sett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equ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ealism &amp; Fantas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uthor’s Purpos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raw Conclus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mmariz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eb6115"/>
                </a:solidFill>
                <a:uFillTx/>
                <a:latin typeface="Lucida Sans Unicode"/>
              </a:rPr>
              <a:t>Charact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eb6115"/>
                </a:solidFill>
                <a:uFillTx/>
                <a:latin typeface="Lucida Sans Unicode"/>
              </a:rPr>
              <a:t>Generaliza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Diagram 1" descr=""/>
          <p:cNvPicPr/>
          <p:nvPr/>
        </p:nvPicPr>
        <p:blipFill>
          <a:blip r:embed="rId1"/>
          <a:stretch/>
        </p:blipFill>
        <p:spPr>
          <a:xfrm>
            <a:off x="201600" y="907920"/>
            <a:ext cx="8674200" cy="53467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2"/>
          <p:cNvSpPr/>
          <p:nvPr/>
        </p:nvSpPr>
        <p:spPr>
          <a:xfrm>
            <a:off x="228600" y="228600"/>
            <a:ext cx="872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Conclusions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-is a dec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at makes sense based on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plus what you already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Content Placeholder 3" descr=""/>
          <p:cNvPicPr/>
          <p:nvPr/>
        </p:nvPicPr>
        <p:blipFill>
          <a:blip r:embed="rId1"/>
          <a:stretch/>
        </p:blipFill>
        <p:spPr>
          <a:xfrm>
            <a:off x="212760" y="1450800"/>
            <a:ext cx="8596440" cy="4589640"/>
          </a:xfrm>
          <a:prstGeom prst="rect">
            <a:avLst/>
          </a:prstGeom>
          <a:ln w="0">
            <a:noFill/>
          </a:ln>
        </p:spPr>
      </p:pic>
      <p:pic>
        <p:nvPicPr>
          <p:cNvPr id="451" name="Title 2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781200"/>
          </a:xfrm>
          <a:prstGeom prst="rect">
            <a:avLst/>
          </a:prstGeom>
          <a:ln w="0">
            <a:noFill/>
          </a:ln>
        </p:spPr>
      </p:pic>
      <p:sp>
        <p:nvSpPr>
          <p:cNvPr id="452" name="TextBox 4"/>
          <p:cNvSpPr/>
          <p:nvPr/>
        </p:nvSpPr>
        <p:spPr>
          <a:xfrm>
            <a:off x="3124080" y="1523880"/>
            <a:ext cx="467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5"/>
          <p:cNvSpPr/>
          <p:nvPr/>
        </p:nvSpPr>
        <p:spPr>
          <a:xfrm>
            <a:off x="3232080" y="3276720"/>
            <a:ext cx="44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6"/>
          <p:cNvSpPr/>
          <p:nvPr/>
        </p:nvSpPr>
        <p:spPr>
          <a:xfrm>
            <a:off x="3233160" y="4952880"/>
            <a:ext cx="46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Character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57" name="Down Arrow 3"/>
          <p:cNvSpPr/>
          <p:nvPr/>
        </p:nvSpPr>
        <p:spPr>
          <a:xfrm>
            <a:off x="3505320" y="2057400"/>
            <a:ext cx="484200" cy="30481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Down Arrow 4"/>
          <p:cNvSpPr/>
          <p:nvPr/>
        </p:nvSpPr>
        <p:spPr>
          <a:xfrm>
            <a:off x="5486400" y="2057400"/>
            <a:ext cx="484200" cy="228600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5" descr="bear1.jpg"/>
          <p:cNvPicPr/>
          <p:nvPr/>
        </p:nvPicPr>
        <p:blipFill>
          <a:blip r:embed="rId2"/>
          <a:stretch/>
        </p:blipFill>
        <p:spPr>
          <a:xfrm>
            <a:off x="3048120" y="525780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family.jpg"/>
          <p:cNvPicPr/>
          <p:nvPr/>
        </p:nvPicPr>
        <p:blipFill>
          <a:blip r:embed="rId3"/>
          <a:stretch/>
        </p:blipFill>
        <p:spPr>
          <a:xfrm>
            <a:off x="5257800" y="4572000"/>
            <a:ext cx="1076400" cy="1619280"/>
          </a:xfrm>
          <a:prstGeom prst="rect">
            <a:avLst/>
          </a:prstGeom>
          <a:ln w="0">
            <a:noFill/>
          </a:ln>
        </p:spPr>
      </p:pic>
      <p:sp>
        <p:nvSpPr>
          <p:cNvPr id="461" name="TextBox 7"/>
          <p:cNvSpPr/>
          <p:nvPr/>
        </p:nvSpPr>
        <p:spPr>
          <a:xfrm>
            <a:off x="6483960" y="52578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9"/>
          <p:cNvSpPr/>
          <p:nvPr/>
        </p:nvSpPr>
        <p:spPr>
          <a:xfrm>
            <a:off x="1835280" y="56386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 All birds have wing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  <p:pic>
        <p:nvPicPr>
          <p:cNvPr id="465" name="Diagram 3" descr=""/>
          <p:cNvPicPr/>
          <p:nvPr/>
        </p:nvPicPr>
        <p:blipFill>
          <a:blip r:embed="rId2"/>
          <a:stretch/>
        </p:blipFill>
        <p:spPr>
          <a:xfrm>
            <a:off x="895320" y="1878120"/>
            <a:ext cx="74437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Diagram 2" descr=""/>
          <p:cNvPicPr/>
          <p:nvPr/>
        </p:nvPicPr>
        <p:blipFill>
          <a:blip r:embed="rId1"/>
          <a:stretch/>
        </p:blipFill>
        <p:spPr>
          <a:xfrm>
            <a:off x="-30240" y="225360"/>
            <a:ext cx="8826480" cy="63342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3"/>
          <p:cNvSpPr/>
          <p:nvPr/>
        </p:nvSpPr>
        <p:spPr>
          <a:xfrm>
            <a:off x="640080" y="380880"/>
            <a:ext cx="830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3200" spc="-1" strike="noStrike">
                <a:solidFill>
                  <a:srgbClr val="0000cc"/>
                </a:solidFill>
                <a:latin typeface="Aharoni"/>
                <a:ea typeface="Aharoni"/>
              </a:rPr>
              <a:t>Main Idea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s the most important id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n a selection or para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964800" y="5105520"/>
            <a:ext cx="762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Details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re small pieces of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at tell about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152280" y="1600200"/>
          <a:ext cx="8839440" cy="502920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What I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badi MT Condensed Extra Bold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What I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badi MT Condensed Extra Bold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ant to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What I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badi MT Condensed Extra Bold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ear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Diagram 1" descr=""/>
          <p:cNvPicPr/>
          <p:nvPr/>
        </p:nvPicPr>
        <p:blipFill>
          <a:blip r:embed="rId1"/>
          <a:stretch/>
        </p:blipFill>
        <p:spPr>
          <a:xfrm>
            <a:off x="731880" y="987480"/>
            <a:ext cx="7656480" cy="5651280"/>
          </a:xfrm>
          <a:prstGeom prst="rect">
            <a:avLst/>
          </a:prstGeom>
          <a:ln w="0">
            <a:noFill/>
          </a:ln>
        </p:spPr>
      </p:pic>
      <p:sp>
        <p:nvSpPr>
          <p:cNvPr id="432" name="TextBox 2"/>
          <p:cNvSpPr/>
          <p:nvPr/>
        </p:nvSpPr>
        <p:spPr>
          <a:xfrm>
            <a:off x="15480" y="0"/>
            <a:ext cx="34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Diagram 4" descr=""/>
          <p:cNvPicPr/>
          <p:nvPr/>
        </p:nvPicPr>
        <p:blipFill>
          <a:blip r:embed="rId1"/>
          <a:stretch/>
        </p:blipFill>
        <p:spPr>
          <a:xfrm>
            <a:off x="225360" y="1390680"/>
            <a:ext cx="8620200" cy="5168880"/>
          </a:xfrm>
          <a:prstGeom prst="rect">
            <a:avLst/>
          </a:prstGeom>
          <a:ln w="0">
            <a:noFill/>
          </a:ln>
        </p:spPr>
      </p:pic>
      <p:sp>
        <p:nvSpPr>
          <p:cNvPr id="434" name="TextBox 5"/>
          <p:cNvSpPr/>
          <p:nvPr/>
        </p:nvSpPr>
        <p:spPr>
          <a:xfrm>
            <a:off x="4195440" y="2819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6"/>
          <p:cNvSpPr/>
          <p:nvPr/>
        </p:nvSpPr>
        <p:spPr>
          <a:xfrm>
            <a:off x="1622520" y="380880"/>
            <a:ext cx="646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5160"/>
                </a:solidFill>
                <a:latin typeface="Arial"/>
              </a:rPr>
              <a:t>Compare and Contr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51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hings are alike           How thing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Up-Down Arrow 7"/>
          <p:cNvSpPr/>
          <p:nvPr/>
        </p:nvSpPr>
        <p:spPr>
          <a:xfrm>
            <a:off x="2819520" y="1066680"/>
            <a:ext cx="152280" cy="304920"/>
          </a:xfrm>
          <a:prstGeom prst="upDownArrow">
            <a:avLst>
              <a:gd name="adj1" fmla="val 50000"/>
              <a:gd name="adj2" fmla="val 5005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Up-Down Arrow 8"/>
          <p:cNvSpPr/>
          <p:nvPr/>
        </p:nvSpPr>
        <p:spPr>
          <a:xfrm>
            <a:off x="6095880" y="990720"/>
            <a:ext cx="152640" cy="304560"/>
          </a:xfrm>
          <a:prstGeom prst="upDownArrow">
            <a:avLst>
              <a:gd name="adj1" fmla="val 50000"/>
              <a:gd name="adj2" fmla="val 4988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439" name="Title 2" descr=""/>
          <p:cNvPicPr/>
          <p:nvPr/>
        </p:nvPicPr>
        <p:blipFill>
          <a:blip r:embed="rId2"/>
          <a:stretch/>
        </p:blipFill>
        <p:spPr>
          <a:xfrm>
            <a:off x="225360" y="165240"/>
            <a:ext cx="8521920" cy="12618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IMG_0254.JPG"/>
          <p:cNvPicPr/>
          <p:nvPr/>
        </p:nvPicPr>
        <p:blipFill>
          <a:blip r:embed="rId3"/>
          <a:stretch/>
        </p:blipFill>
        <p:spPr>
          <a:xfrm>
            <a:off x="2666880" y="9907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C:\Users\shilburn\AppData\Local\Microsoft\Windows\Temporary Internet Files\Content.IE5\VEZZCMN3\MCj04242320000[1].wmf"/>
          <p:cNvPicPr/>
          <p:nvPr/>
        </p:nvPicPr>
        <p:blipFill>
          <a:blip r:embed="rId4"/>
          <a:stretch/>
        </p:blipFill>
        <p:spPr>
          <a:xfrm>
            <a:off x="2743200" y="5181480"/>
            <a:ext cx="15238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Diagram 4" descr=""/>
          <p:cNvPicPr/>
          <p:nvPr/>
        </p:nvPicPr>
        <p:blipFill>
          <a:blip r:embed="rId1"/>
          <a:stretch/>
        </p:blipFill>
        <p:spPr>
          <a:xfrm>
            <a:off x="963720" y="1378080"/>
            <a:ext cx="7759440" cy="51559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52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quence= The order in which events happen in a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380880" y="1676520"/>
          <a:ext cx="8305920" cy="387504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at happen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uld this happe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his story is ________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2"/>
          <p:cNvSpPr/>
          <p:nvPr/>
        </p:nvSpPr>
        <p:spPr>
          <a:xfrm>
            <a:off x="152280" y="152280"/>
            <a:ext cx="8991720" cy="1800360"/>
          </a:xfrm>
          <a:prstGeom prst="rect">
            <a:avLst/>
          </a:prstGeom>
          <a:noFill/>
          <a:ln w="93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Realism and Fant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05766"/>
                </a:solidFill>
                <a:uFillTx/>
                <a:latin typeface="Lucida Sans Unicode"/>
              </a:rPr>
              <a:t>Realisti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ells about something that could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05766"/>
                </a:solidFill>
                <a:uFillTx/>
                <a:latin typeface="Lucida Sans Unicode"/>
              </a:rPr>
              <a:t>Fantasy-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s make-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457200" y="2133720"/>
          <a:ext cx="8229600" cy="4495680"/>
        </p:xfrm>
        <a:graphic>
          <a:graphicData uri="http://schemas.openxmlformats.org/drawingml/2006/table">
            <a:tbl>
              <a:tblPr/>
              <a:tblGrid>
                <a:gridCol w="1676520"/>
                <a:gridCol w="3200400"/>
                <a:gridCol w="335268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y do you think s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47" name="Title 2" descr=""/>
          <p:cNvPicPr/>
          <p:nvPr/>
        </p:nvPicPr>
        <p:blipFill>
          <a:blip r:embed="rId1"/>
          <a:stretch/>
        </p:blipFill>
        <p:spPr>
          <a:xfrm>
            <a:off x="225360" y="92160"/>
            <a:ext cx="86374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14:07Z</dcterms:created>
  <dc:creator>user</dc:creator>
  <dc:description/>
  <dc:language>en-US</dc:language>
  <cp:lastModifiedBy> </cp:lastModifiedBy>
  <dcterms:modified xsi:type="dcterms:W3CDTF">2009-12-07T16:14:40Z</dcterms:modified>
  <cp:revision>22</cp:revision>
  <dc:subject/>
  <dc:title>Slide 1</dc:title>
</cp:coreProperties>
</file>